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97392"/>
        <c:axId val="79314711"/>
      </c:barChart>
      <c:catAx>
        <c:axId val="34097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14711"/>
        <c:crosses val="autoZero"/>
        <c:auto val="1"/>
        <c:lblAlgn val="ctr"/>
        <c:lblOffset val="100"/>
        <c:noMultiLvlLbl val="0"/>
      </c:catAx>
      <c:valAx>
        <c:axId val="79314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97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540-0A05-4193-ADA8-FFF1C903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617-328A-4EDD-8459-C6BCFD1F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F34-4A8D-4E0B-8CB5-3138F48E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501-E2E7-4968-AC12-314D6A93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AED-3587-4D2A-B6DE-E6CDC8F1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9AA-B627-4554-85D7-D5C6E554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988-5090-49E1-B1EE-BA965C2E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BB7-F83C-4829-8B7B-559000E5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113-A0AC-40D4-88CC-577602DB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40F-60D0-4F73-A5AB-C6CFA2B4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F53-3AC2-426C-B137-6192B97B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897-84BE-462D-A226-D22BB1AF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825CE-A62B-45B7-A1A5-BBBC196D6A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