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47971"/>
        <c:axId val="95790314"/>
      </c:barChart>
      <c:catAx>
        <c:axId val="36547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90314"/>
        <c:crosses val="autoZero"/>
        <c:auto val="1"/>
        <c:lblAlgn val="ctr"/>
        <c:lblOffset val="100"/>
        <c:noMultiLvlLbl val="0"/>
      </c:catAx>
      <c:valAx>
        <c:axId val="95790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7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43A-1B07-46AE-9A9F-9EE8D025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F12-CC07-4B30-9BEC-B849DBD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266-9808-4446-83D2-00AE2943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191-E7BA-441A-B760-26FAC1D1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9C2-C568-4A0F-B625-71A6E6C8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957-E1BF-48DD-A0A8-F924A4C2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4BA-9505-4C0A-B40F-83A727BE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E86-CE36-45F7-861B-8117A564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229-29E9-4574-9E60-FA1A88F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4AD-C1D2-4C94-BDC7-BEFC3EF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70D-6912-4550-B27F-55C35A2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581-BB1F-41C1-9D8B-0679D05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CC785-4CC3-4202-8516-938139509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