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82620"/>
        <c:axId val="74204247"/>
      </c:barChart>
      <c:catAx>
        <c:axId val="20782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4247"/>
        <c:crosses val="autoZero"/>
        <c:auto val="1"/>
        <c:lblAlgn val="ctr"/>
        <c:lblOffset val="100"/>
        <c:noMultiLvlLbl val="0"/>
      </c:catAx>
      <c:valAx>
        <c:axId val="74204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2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FEF-069D-4467-9095-ADB83EB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8EA-1B2B-4B51-A1BB-C36C264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86E-FD77-4305-9A1F-D9DFBF7C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FB1-F37B-4564-98D0-0F5F4DCB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44A-F11A-4FFE-961A-D2DAFCCA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47C-784A-4FD6-A5C4-F33F84C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B13-2DDE-4535-8B7F-57CE7898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D14-68BB-48D3-9C5B-188A508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D3E-C0B7-40A7-BD7E-E88F09F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3ED-3094-4031-9B2A-AFD0BEA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23F-8896-4D60-A21E-3CA09D3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562-4E69-4498-A901-AFCE371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166C-80F6-4CF5-B952-60B960D2A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