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941768"/>
        <c:axId val="9157146"/>
      </c:barChart>
      <c:catAx>
        <c:axId val="609417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7146"/>
        <c:crosses val="autoZero"/>
        <c:auto val="1"/>
        <c:lblAlgn val="ctr"/>
        <c:lblOffset val="100"/>
        <c:noMultiLvlLbl val="0"/>
      </c:catAx>
      <c:valAx>
        <c:axId val="91571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417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B113-F5F1-4E7A-9C72-257881EBA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7E58-DD8B-4872-9097-A208B357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D65F-D985-4755-8597-05327AB7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A94A-DBA9-4C76-9846-757033BE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E45D-7606-45D6-9675-67D8F7D8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2366-8A96-4883-9D8B-C5B3DD1A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5E98-2A59-4B68-B759-6FD98562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4CCC-8F84-4A34-A5EB-1F9B9B4A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6B25-8511-43BA-BE89-856EB9D3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9521-A098-4C0A-BEBC-60176572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FF08-7DCC-4D23-B400-CEBD96AF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4CC5-85F2-4D5B-9588-16C836A7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BD4DE-98D9-4CB9-88BA-01155E16C4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