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19523"/>
        <c:axId val="54581199"/>
      </c:barChart>
      <c:catAx>
        <c:axId val="60719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81199"/>
        <c:crosses val="autoZero"/>
        <c:auto val="1"/>
        <c:lblAlgn val="ctr"/>
        <c:lblOffset val="100"/>
        <c:noMultiLvlLbl val="0"/>
      </c:catAx>
      <c:valAx>
        <c:axId val="54581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19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48A-449B-4576-A5EA-19514F62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EA5-6CDA-4AF5-B317-E4CD9D9E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961-8DCC-4126-92FB-67E1E414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7F9-319B-4183-90A2-88B67185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229-0B37-4EE6-A2A8-A1CA296F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1FC-57A9-4CEB-8A2F-02A1F2A1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03A-DBC5-47FA-A650-AF18ADBC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05B-2CDC-49AE-8A6B-E51C626C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91F-55E8-42C0-847D-1B65E5FA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063-4B82-446D-B462-07F3C3A4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45D-EFC0-442F-89B6-7405415D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A41-FB18-48DB-ABB1-008506EF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B5A6E-0B70-4EAE-AE2D-7521114C2B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