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2778"/>
        <c:axId val="63250590"/>
      </c:barChart>
      <c:catAx>
        <c:axId val="9432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0590"/>
        <c:crosses val="autoZero"/>
        <c:auto val="1"/>
        <c:lblAlgn val="ctr"/>
        <c:lblOffset val="100"/>
        <c:noMultiLvlLbl val="0"/>
      </c:catAx>
      <c:valAx>
        <c:axId val="63250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C71-ED0D-4532-B914-3C93DDD3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DA5-3D8C-4EA0-83AD-92EE224E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85F-2E36-4A44-BAC7-B8252473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869-2DE5-409B-A859-DF4BB5CA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7FC-93EF-4D2B-AAA3-89E23829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741-8FA7-4852-84D2-C335924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F95-0EAC-4E76-9BC4-ED8EBA6F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CAB-0D9E-40F2-A183-D4B24E49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1C1-879A-456F-A836-A92C6211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440-E6E5-4EC4-A3CB-FE82AB7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87F-2559-4E09-8906-01CD372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C43-E274-4691-B455-B77878D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A9F28-FF4C-436B-BFDC-E14809F9F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