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565449"/>
        <c:axId val="63531169"/>
      </c:barChart>
      <c:catAx>
        <c:axId val="456544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531169"/>
        <c:crosses val="autoZero"/>
        <c:auto val="1"/>
        <c:lblAlgn val="ctr"/>
        <c:lblOffset val="100"/>
        <c:noMultiLvlLbl val="0"/>
      </c:catAx>
      <c:valAx>
        <c:axId val="6353116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56544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06BA1-6E32-47D3-8AB1-0BC64D963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CE818-CAE2-4222-920D-F83D5F651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4AAED-6C2C-4613-B110-0326EF203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D9B32-6DF8-4007-8F42-AEE2A885B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75502-3F94-4E0B-8BCB-7B4EE9930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29654-1334-4E89-8B35-E39CD02EC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71345-71AC-433E-ACF4-D2D1B7857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9F62B-D61F-4EDD-B9B0-5C600C7E4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9B205-6FAF-4ECF-A957-AAA3A029B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8484B-23B4-4B7D-8AA9-6B5BE9ACE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F3ACD-BD67-47D6-8467-0081519D4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FADF7-F7B2-4399-A512-A96323A9C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D6C4E3-709E-4B90-B989-42E2AF39D7E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