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64934"/>
        <c:axId val="93855023"/>
      </c:barChart>
      <c:catAx>
        <c:axId val="38864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55023"/>
        <c:crosses val="autoZero"/>
        <c:auto val="1"/>
        <c:lblAlgn val="ctr"/>
        <c:lblOffset val="100"/>
        <c:noMultiLvlLbl val="0"/>
      </c:catAx>
      <c:valAx>
        <c:axId val="93855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4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6A2-45E1-49EC-BEE8-7B00BDC8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E83-8CCD-4E4B-8E5A-2637C975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206-E92F-4AFF-8655-869618A8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ACF-1EC6-4A56-B0D7-85845C68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B0C-2FEC-48DF-9052-EA3DD425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DB2-851B-4826-8530-388FD7C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6A2-33FB-495A-A559-1D0097C8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465-CA93-4B2F-B1B0-E731317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27E-774E-44B4-B2B8-B6263032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B9C-2987-47EC-9B93-5181C78F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41F-3FFA-4B63-A3E6-7E903085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5CA-FD6A-4CFE-8935-774AF16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7A9B9-83F8-4533-B3C1-3905DDDD8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