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16122"/>
        <c:axId val="52261861"/>
      </c:barChart>
      <c:catAx>
        <c:axId val="87161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61861"/>
        <c:crosses val="autoZero"/>
        <c:auto val="1"/>
        <c:lblAlgn val="ctr"/>
        <c:lblOffset val="100"/>
        <c:noMultiLvlLbl val="0"/>
      </c:catAx>
      <c:valAx>
        <c:axId val="522618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161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1378-FBBC-4D96-8125-DAA9ED58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AE52-AB20-47F2-8FB2-8D3C9D0C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04BB-1095-4777-83F2-B7D36BCAA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EF32-4BA2-4576-A33F-A90B9FA38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68F3-A80B-482D-B4D3-42C3B835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E750-245B-4802-9EC3-EF0F23D7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000B-809B-499C-A84A-94822DC3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E212-2329-4F05-A44A-27273133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52D4-F2BE-4735-8B56-17F782C2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A66C-933B-4729-BD19-D9E9AC5A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E1F4-1F6F-4E08-9451-B616ACF6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7434-1F0D-4810-9D38-4C5BF622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4FD26-2FF7-4CCD-A989-85FC01B69E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