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51076"/>
        <c:axId val="3789344"/>
      </c:barChart>
      <c:catAx>
        <c:axId val="37751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9344"/>
        <c:crosses val="autoZero"/>
        <c:auto val="1"/>
        <c:lblAlgn val="ctr"/>
        <c:lblOffset val="100"/>
        <c:noMultiLvlLbl val="0"/>
      </c:catAx>
      <c:valAx>
        <c:axId val="3789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51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A2D-2E57-4A7B-9803-80214567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2DB-38B8-4672-8707-CB827B7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4D2-5E4D-4CE3-A15D-F1655267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82A-92C3-4215-B967-3408B15E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C42-CC0C-4E6F-8863-B95A6C7D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3FB-7B95-4C6D-89ED-6CB3587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F1F-CE9B-407E-BACB-07B538EF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FAA-6A20-48CB-B23B-3DA1BBE7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A95-265F-4829-AE45-65C95AB4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C9E-2EDC-43A3-A1AB-5A5AD9B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24C-DE97-48B5-A55C-0A727F7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F93-0B41-456A-8EE3-D83455A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56682-08CD-4AA0-B9E1-79830D4E4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