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15290"/>
        <c:axId val="60945969"/>
      </c:barChart>
      <c:catAx>
        <c:axId val="30415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45969"/>
        <c:crosses val="autoZero"/>
        <c:auto val="1"/>
        <c:lblAlgn val="ctr"/>
        <c:lblOffset val="100"/>
        <c:noMultiLvlLbl val="0"/>
      </c:catAx>
      <c:valAx>
        <c:axId val="60945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15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0B6-4246-4ED3-9E4F-FD7302CF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8000-A890-4C58-9697-2B3D232D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5D4-2761-4FF4-8603-049F5969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F7A-39CC-424E-A909-0172B736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0AC-D8E5-4542-BC71-611F08BD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5A0-DD4A-4DEF-AC58-86109EFD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B1B-6B7D-4AD6-879D-DE7A0F9D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5D5-8D14-4B6A-9A5F-4BB5F950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3AA-D084-47A3-B5EC-6019FF5D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7CE-7518-427F-B3DE-CBB80F0A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362-12D5-4747-992B-BCC3B932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0E8-F578-4129-9C87-B07DE1BE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E93C8-8209-4504-AB4F-B3531E3DFF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