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268176"/>
        <c:axId val="6854928"/>
      </c:barChart>
      <c:catAx>
        <c:axId val="972681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4928"/>
        <c:crosses val="autoZero"/>
        <c:auto val="1"/>
        <c:lblAlgn val="ctr"/>
        <c:lblOffset val="100"/>
        <c:noMultiLvlLbl val="0"/>
      </c:catAx>
      <c:valAx>
        <c:axId val="68549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2681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60A0-C069-47E7-B057-AAB07A01D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0B79-67B2-4C79-8D51-41464A74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92A3-F52B-4DBC-8A05-8E48242A1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DCCD-F687-4E3F-9FE0-74ACB9190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4988-6606-4164-9B45-E1BDCC7F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D437-2417-4CCD-BFFC-A8E19FBC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C0F2-BDC5-4532-B2E3-7FBBF5F2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B6D0-AF81-4816-9CA7-0A57E711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463C-D736-4F50-A263-029CB101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EEDA-DA6D-4A5E-82E7-2BFFB65C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9B3A-4368-46ED-BDE4-6D4BC118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C3A3-5AF3-413F-9D0B-3FD3C192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0BFF3-E71A-4C2D-978E-92547786E2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